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536-3FEB-48BE-ADEE-45FDD1C4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8E6-DE80-4C01-B6CE-EAC72089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BBD4E-7F73-4A7E-95B9-810C7D7E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12B19-1FB1-4C90-BF84-66241BB5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CDB0F-288D-4EDC-892A-42B10D53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EAB01-4CAF-4437-87F3-7E473992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F941D-60DC-4D5F-99E4-B7BEBC7E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6F14A-64ED-46B8-B057-53810ED3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A0967-B479-4F4D-84B9-499CE4D1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BAFF4-B079-47F5-81F2-99F53459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6ED38-5CBE-4877-8705-C5F7F89C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4585B-BBFD-4E31-A0BB-1B41D842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A7F-5390-4FBF-AE22-12CC81D5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0AFAE-C1C7-4274-B5A1-2C553599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0BD15-E6D5-4DF5-A497-C1F0AF80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3D7B9-F19F-4AAE-8275-6294119A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A320D-733D-48B5-AE72-02682786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5A8F0-1638-4525-8337-577D2CFB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76D20-66BF-44BB-8B01-8BF0DB4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D6E8E-65B0-4A44-A13A-2CA160E7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34287-349D-42D8-8F2B-50D3D2B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B677C-BED9-4A74-BF4D-C97F5EAE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48BFB-D013-44C4-A128-B79FB2AC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891-1FA0-497E-952A-C11E27CD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C47DC-D3C4-4CE4-B00F-1CB8B0A5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8C064-BADB-4362-B357-7013D41E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593B-7978-453D-BB79-A3243385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DCB85-0F37-4994-AB4E-855096AB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54140-8707-4630-AE91-9DC01125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FF197-99A1-4A2B-A00B-4E7BB332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DCAFC-5392-4F09-848B-459A3225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C1463-9FD0-44CA-B52C-F0A17F67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F075F-2D8F-4DAD-8B99-3D6DD6E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05079-F1D0-487B-85ED-D855B5A0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D2AF-2320-41CC-A647-09690520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600FF-45E4-498F-AE20-CB34BF5A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51127-94D6-4566-9D8B-2EC6B47C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DF064-B94A-4F82-9682-4EBC4DEB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39C22-E469-4DA9-9C1F-5585D85C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AB4C5-8895-4A64-8AAE-E83954D6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6FC98-5EDE-4327-BB0F-AEAD9AAA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08488-308D-4B0B-AE48-1EC97FEF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8F3C2-3424-4A3E-AEDC-70FE225A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8F4AB-A3F5-44D8-97DC-65A5021F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DCC7A-8996-405C-A443-06124A80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D523-0253-4B61-81FE-FB3098E8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B9C1B-9092-4D9B-81FD-06D4B42C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3F587-FEF5-4DDF-8289-C9AE8659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EBEE9-038F-4770-A26C-097DEA2A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B8596-5314-4D4D-92F0-62B21B96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6D90D-6488-4BC5-B168-9DA3D50C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97415-D4D6-40D4-91B2-75786A03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B5039-F652-4585-A581-F4B4C166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404B4-7B16-45FA-8DF3-8939D5BD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E8869-90D4-45F7-8E64-9C641E31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B5459-7908-42AE-9CAB-29CB346B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85F9-4F57-4E08-90B7-E86D2BE4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A64D9-9148-4909-AF1E-33286489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2913E-1CAC-440F-AE14-AB597C6D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A7DB9-3BF2-482A-A435-8BA4B829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C39A3-A0E6-439D-BEA5-9B1A1465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DABAC-2EC5-4743-8FD9-9979F8A3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132B2-8DF0-4DAB-9C94-ED89FDE2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55FCD-010E-4474-B951-74E4050E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0823A-8768-4405-A6D6-6AACAFFE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7214E-5C1E-43E4-9D03-5D641F7F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424A1-E13A-488B-B1A7-CD8F2333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0F9F-7B3C-49B9-BDA2-66FE3C6C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A86F4-A5CE-491D-89DD-D288377D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0FA83-40A5-4778-B3EF-C486133D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AD71D2-2447-4257-9676-B94BB1CF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9B97A-EDB5-4031-9D65-7BDF20BD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B174D-3749-4693-A25F-BAB0AB9F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75159-1D73-4B75-8261-1C522AB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F1B35-B842-4EE4-A2F1-35DB1CEE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E4653-8C7C-4A21-835A-71F7E35B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6C671-3173-401C-B741-8A7799B2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56653-5DDE-4127-9E5E-2AD54525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8CFC-DFEB-4043-9650-327D753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E8D53-D2DD-4DE0-A4F5-8D7202BE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A2BF3-96AF-468F-A867-2E1078DD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EAF44-D881-4056-92F6-F46DB3AC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9070C-5BDB-415B-9A0A-EA74ED5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06384-F471-49DA-BE3A-F7BF4834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15D48-D82D-4DB4-AC04-EF72E76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C79E9-00C0-493B-A5CF-E10AAFF1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065C2-F01A-4F2F-8DB9-4CB6EE9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CF830-225E-4081-B6C0-1D2AAAF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8B862-DF79-43DC-AC38-4E1D7FD8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6C62-E517-4767-BE44-F01816CE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3BDB1-222F-4F40-B7D6-81B00DD4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73C8B-141A-43BA-AF15-3ED30174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085F0-2B74-4522-839A-2FCB10C8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05989-5883-42C4-871D-BA61ADB6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6A970-2078-4736-8F39-6BFFE98B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E1F9A-1C6D-41FE-8F79-3304BC68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8DAD8-1121-4122-90F9-1C8A6E5D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C7AB4-6CC8-40D3-8036-0E5EA580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A0AB6-8821-4E52-B9B9-717D70D2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41624-E62C-4403-A817-D5020E9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2666-7DA0-4E7D-8F93-76306C88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1225F-8920-42F2-A858-2B5C911B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A8350-450D-41DA-A779-3843DAC3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E54D9-279E-4EF8-ABBC-B7F9D8A7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3AF78-7E28-4B53-9654-1B37D9AD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A393F-D9E8-46DD-A949-810A6058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F3768-159E-41BE-9ED5-59C22D1E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8B16F-27CE-4019-BACB-FAE5F66A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6C0C6-65B9-42C1-B6DD-428EF8D1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3D1FE-3E2A-420F-9961-E1FB42D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8198AD-43EC-4D18-9F3B-4DBF058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F11-4FDD-4B3E-AE10-BEF57300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A7BF-1B1D-41A9-B307-68119F3B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9422F-022F-4CA7-98A3-1B4F3504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23587-0C95-4FDD-86EF-6878531E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7ECDF9-E3F4-42C6-963D-AFE2522B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510B1-0473-4B94-915F-85B7D44C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035BB-C6FE-47CF-A8E1-400D257F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E4B77-3957-46E3-82B2-FD385CD2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EF15B-2C15-4997-9AE7-048105B7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8561C-9043-42B6-9620-E8CB04EF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BFB57-1EFC-41CF-A700-47967065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4FEE9-6BD3-4571-AB3A-6D8D6D6A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9664-DBF0-4DCC-86DD-470227F1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5D7E6A-7169-4A23-93BE-A0C2F3E3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0819F-42B4-4ECF-BF24-BB1771B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F0FB3-24D5-4042-9F94-B3AE32FA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CFE41-1B88-4471-889C-625C9B2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0C5DD-DBBF-4668-945F-803B03E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CC7D6-E112-4134-9CBB-6863138B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018B4-0AD6-4657-B7C7-F8D23193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69D2A-F3FF-4806-89F2-11394952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33076-8296-425E-ACF8-9752D3BE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C0078-CF99-4B1A-BEEB-30C6D991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18A1-B629-499D-BABF-0B707A94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FF185D-E52F-494A-A551-44A0D917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C91A0-1383-4757-93F3-B43AE74B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2D5962-5F5B-43DE-A822-D7D7D044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5CB366-435D-43D3-B69D-25F9EC3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31925-E2EA-4489-9475-EAB00807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7990E-8E85-406A-AA87-E8A37DAD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7A02F-9960-45B4-90C3-2F08924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D38803-2FBC-4FE0-BBC9-7035754C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A9A45-4511-410D-B459-8790FB14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B38860-F315-4C63-8EEE-326DC20A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89F-5C9A-4876-9D0F-40BB2761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98CD8-ECB9-4E14-BED0-24014A57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68FE7B-B616-4473-AE9F-E7D2978E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90933E-F7A7-4081-AB56-EC5B4E48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AD24E3-446C-4DD3-8965-3DA5AE6E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135F8-61EC-4063-A91E-161D4339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61B0F-E286-4441-9A8B-E55E1B1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00DFA5-F878-4944-8065-C948D6B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F06F5-3B86-48FE-A416-A6760836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0DCE6-C822-4821-99FB-8E82AF41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3CBEFB-4B87-4529-ACBD-68C1145A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671C-E642-4366-A0B9-9A44CA41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EE0F32-26C7-4000-BEA0-1CB93BFA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3918BD-D954-4C44-BCA0-B366338A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0E872-0112-4EA7-96ED-5D6C9CB7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56B899-B032-4C09-BFE9-151E68D2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2CF6B-880E-40DA-A731-91CB44E0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32596-8FDB-4317-B66D-BAD92C42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3DB4C-5586-4738-B2CC-E01A02B6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4C8A89-4278-4723-ACA1-D500091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74331-72B0-4850-9117-9F9A71F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DC2FA-CBA9-4CAE-B454-AABECE2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20A2-B58A-4047-8062-34F6890C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A9C1B-23FE-48C0-9ED5-18964C76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EC83F4-A95B-4324-B5E8-36402CA1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045FAA-CE91-43E0-AAD9-B5DEC2B6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6466-E95D-4D72-A554-2D70DE45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A9A7-ACAE-43ED-9D74-A9F1E2A0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481D-B859-4133-A048-F91ADA10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7D996-3138-4C4D-A2CD-EAC4966E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0A3-BF60-4C0E-887B-DADA67FF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549B-15E5-4DD1-AA86-720B9532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A03A-CB17-4FD4-82DC-DB0E471E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C1EA9-6142-46DE-8E58-CF53B00E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5B895-408F-4169-A926-8F025F97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5EE2B-D983-4FC0-A361-CF39257F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A411-41C9-4312-9E88-F99B441D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8557-1FAE-46CD-9B9F-8D754853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5BBD7-62EC-41A0-9D64-C8EAE20A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8C13-69F4-4B34-99C9-A3F4B424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D374-4C6F-4D2F-83FA-4B92EE36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FD7-4383-42D6-882B-145C290E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D9E51-2871-4EC2-B3EC-B11564E1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015E-13D5-4071-A22D-287E073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C0D7-73A8-4A08-894E-179A68DD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D72D-678C-44D2-AF96-60645C51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987E2-1536-4443-89EC-044320BC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DADA4-78A9-495B-83F9-2631C358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FF54-7120-4059-8B8E-D8943031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852FE-51D9-4268-8FB4-B75F8D47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A04E-5A8C-4454-91E9-CF15FB06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6F26-DEEB-41B1-BAE4-D69D7C28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4F9-8384-4EC3-8F74-C7711CAF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40B8-5629-4B52-8B37-44947796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977A-1177-480A-A1A6-912C8D99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6577A-74C1-42F1-B6A8-A9CF19E0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D4E8C-00CB-4709-8D3E-20BDFF72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F3F66-DBD4-47EA-AB3C-3A3A0EDF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F2FC-8703-4937-96E8-CD6976D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0B5A8-505D-42DE-AC60-D2A48C9C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8253D-ECEA-4ECD-BD10-B2F6943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7F8C5-1A57-470E-A54C-F61A45F7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CBB1C-6244-4F04-88B9-B1B089BC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4B6-32B0-403A-8982-34047ECF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23565-749E-4CAA-9965-E82944D9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DE87-9CCC-4CE7-AD04-9D88DFAD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9FA6-9A25-447E-89E6-9E9F7C9B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EF6BF-2F90-4393-B693-80A351D8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C0835-B3E0-4C5F-A96A-4464CAE4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A1B11-B68C-4B66-BDE5-DA6D044B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CB69-760D-4236-8863-8890FB9F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BB11B-2F5F-4428-878E-770CE2B0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52E7E-20B1-4A47-85DC-F84B657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FC7C9-92F7-4C04-ADF2-F3F5541D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ACF-DF2C-497E-A1DE-D250E13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120C-8E47-462C-96E8-9D2D73FC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963D9-5BD4-4FF1-8ABD-4A864992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8963C-D678-40EB-93C3-73FD9C7C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0A665-91E4-4FCF-B0B7-EDC28A25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F079B-E11D-43EC-AA59-0A07B174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9B56D-0625-41C0-A18E-BE89F114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80BBF-4A02-4319-ACDB-EF08A4DA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333F1-57DB-403F-9065-39A26329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71D09-49A5-45B6-B0F2-46E00246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246CD-CA57-428C-BA28-F44FBDD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F10-3534-4375-9E04-ED8BB35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48A60-569A-4FED-8E8C-EAC7A0A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2D2EA-C31E-4B35-8329-436462E3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491C7-80CB-4368-AE4A-B483EC49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59DC-D3E8-42FE-8E0C-3164B102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E9B5D-8512-4DE4-A537-A6A62447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2BF1D-3819-47C2-A860-576B64FD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E9B27-D286-4283-9956-5E79685B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4B4DA-D797-468D-BECE-BB6A9D6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E410D-9254-4E64-8825-89EB3376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A8973-CBE8-4914-A4DB-1D486C3C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B4F-5478-4B05-9BC8-E66C0864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48CE2-FEA7-4D17-8058-23739AE1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9561C-DCF5-4C23-82A0-17AE7AFF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8FA69-F99B-4400-8797-A2BDD12A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24214-9C52-4C80-99A5-8E182992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31E90-C514-45EF-9FFB-94D1BEEE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A52E9-1401-4934-A1F8-01668FA1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010D2-5B59-4375-B8AC-77B4601D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39D32-7167-4851-89E9-F89185E2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01E97-B8CA-4EFF-A246-37B52B0D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6020C-DB3A-4E30-A28A-6DDB1319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F5A3-F243-4D88-A3B6-E34F1C48B7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3081-DDE5-4817-862F-9E00D219BF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7EAF-0EB7-4F25-9F65-E07ED1362D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A708-6CD3-4992-A193-13029FC008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3089-B738-4A1D-A0F7-6C24A10602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3AD8-C9A5-4B8E-B4FF-F20DBB381A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4FF9-AB07-40E8-AE28-9B07DCB06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118C-C9AD-43EF-AB36-78BFF36436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C276-05D8-4029-A785-4E5F21BE18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AF65-8E09-449F-BEE9-02811A8AAC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A6E3-85B2-4322-9FB2-08C5DF595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B63D-80DE-4204-ACE3-C2EA2ABF7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DA98-7B1D-4A65-AFCA-847912EBDD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B06A-9081-46B2-8BF4-88B4C2BB4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44F5-ED2A-4687-AAF5-0FFC8A73CC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EF0E-1DC5-420B-9A9A-A02B95C842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80A-6F90-401D-94E0-D02D21C456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C0ED-C12F-46A3-BABB-DAE6E577D9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D12A-6FFC-4481-A125-24D8B0B1B1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704F-5AAF-4E5E-80A5-D77EC7C6A0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5590-DDCC-43FF-86CF-2C19DCE14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A04-53FE-468D-B1FC-B7F38F70F5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6A12-5582-4A7B-BB09-56EF158854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7751-B033-41F4-B3AB-EB224C2820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21D9-9CA8-46E4-B037-E7C9C282DF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8E5D-77A8-4834-9111-7682487F9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4A8B-0840-4896-B7A4-FB16BA7DE1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3481-6523-4892-B263-6861285186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8F63-DFDD-4DD5-9F36-1CD2A063E7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0C81-AA4F-4AD9-9B99-B2DC10A6FD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CF27-58ED-4B07-AB0A-818D5BCFEB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C4F1-75A0-43C2-99B2-08348AF14A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54FE-E063-462D-AD25-DE0B5BE9A6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2062-BAE0-47DE-99CD-7F62B12ED9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856B-3099-4781-8137-9570B939A3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E3C3-6524-4749-AB7B-CB9E61C172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1C7D-D967-4A0C-BB0B-2696CE02BF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50E2-3F7C-49FE-A43E-07600AB767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DE02-A919-4925-B43A-0742DAD4B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466A-2694-48F6-BA12-A1696AC94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309760" y="2962440"/>
            <a:ext cx="45244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69633" descr=""/>
          <p:cNvPicPr/>
          <p:nvPr/>
        </p:nvPicPr>
        <p:blipFill>
          <a:blip r:embed="rId1"/>
          <a:stretch/>
        </p:blipFill>
        <p:spPr>
          <a:xfrm>
            <a:off x="233280" y="803160"/>
            <a:ext cx="8677440" cy="55054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57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5759280" cy="473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4"/>
          <a:stretch/>
        </p:blipFill>
        <p:spPr>
          <a:xfrm>
            <a:off x="611280" y="4365720"/>
            <a:ext cx="57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57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6"/>
          <a:stretch/>
        </p:blipFill>
        <p:spPr>
          <a:xfrm>
            <a:off x="611280" y="5300640"/>
            <a:ext cx="7561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95120" y="722160"/>
            <a:ext cx="8753760" cy="6019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7380360" y="2435400"/>
            <a:ext cx="1079280" cy="473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3132000" y="2924280"/>
            <a:ext cx="1079640" cy="473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3218040" y="3465360"/>
            <a:ext cx="4449600" cy="4366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7956720" y="5805360"/>
            <a:ext cx="576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59410" descr=""/>
          <p:cNvPicPr/>
          <p:nvPr/>
        </p:nvPicPr>
        <p:blipFill>
          <a:blip r:embed="rId1"/>
          <a:stretch/>
        </p:blipFill>
        <p:spPr>
          <a:xfrm>
            <a:off x="243000" y="1233360"/>
            <a:ext cx="8658000" cy="4391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8028000" y="119700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7956720" y="2708280"/>
            <a:ext cx="576000" cy="473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900000" y="4681440"/>
            <a:ext cx="5904000" cy="473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5904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73" descr=""/>
          <p:cNvPicPr/>
          <p:nvPr/>
        </p:nvPicPr>
        <p:blipFill>
          <a:blip r:embed="rId1"/>
          <a:stretch/>
        </p:blipFill>
        <p:spPr>
          <a:xfrm>
            <a:off x="1405080" y="933480"/>
            <a:ext cx="6333840" cy="4991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692360" y="1398600"/>
            <a:ext cx="57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692360" y="1916280"/>
            <a:ext cx="57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692360" y="2911320"/>
            <a:ext cx="5759280" cy="473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1692360" y="3429000"/>
            <a:ext cx="5759280" cy="473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1547640" y="4856040"/>
            <a:ext cx="5759640" cy="473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1547640" y="5373720"/>
            <a:ext cx="5759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7352" descr=""/>
          <p:cNvPicPr/>
          <p:nvPr/>
        </p:nvPicPr>
        <p:blipFill>
          <a:blip r:embed="rId1"/>
          <a:stretch/>
        </p:blipFill>
        <p:spPr>
          <a:xfrm>
            <a:off x="195120" y="898560"/>
            <a:ext cx="8753760" cy="52671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7956720" y="1484280"/>
            <a:ext cx="576000" cy="473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5796000" y="5603760"/>
            <a:ext cx="1152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6324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6801120" cy="133380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56325" descr=""/>
          <p:cNvPicPr/>
          <p:nvPr/>
        </p:nvPicPr>
        <p:blipFill>
          <a:blip r:embed="rId2"/>
          <a:stretch/>
        </p:blipFill>
        <p:spPr>
          <a:xfrm>
            <a:off x="190440" y="2895480"/>
            <a:ext cx="8763120" cy="29815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684360" y="1555920"/>
            <a:ext cx="6335640" cy="473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684360" y="2060640"/>
            <a:ext cx="6335640" cy="473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755640" y="4307040"/>
            <a:ext cx="6335640" cy="473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755640" y="4811760"/>
            <a:ext cx="6335640" cy="473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826920" y="5315040"/>
            <a:ext cx="6336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5300" descr=""/>
          <p:cNvPicPr/>
          <p:nvPr/>
        </p:nvPicPr>
        <p:blipFill>
          <a:blip r:embed="rId1"/>
          <a:stretch/>
        </p:blipFill>
        <p:spPr>
          <a:xfrm>
            <a:off x="316080" y="790560"/>
            <a:ext cx="8648640" cy="55911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8101080" y="2003400"/>
            <a:ext cx="576360" cy="4176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1800000" cy="473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5940360" y="3471840"/>
            <a:ext cx="576360" cy="4176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826920" y="4883040"/>
            <a:ext cx="7417080" cy="473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826920" y="5373720"/>
            <a:ext cx="7417080" cy="473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7"/>
          <a:stretch/>
        </p:blipFill>
        <p:spPr>
          <a:xfrm>
            <a:off x="900000" y="5877000"/>
            <a:ext cx="7417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54276" descr=""/>
          <p:cNvPicPr/>
          <p:nvPr/>
        </p:nvPicPr>
        <p:blipFill>
          <a:blip r:embed="rId1"/>
          <a:stretch/>
        </p:blipFill>
        <p:spPr>
          <a:xfrm>
            <a:off x="1566720" y="2590920"/>
            <a:ext cx="6010560" cy="16761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1619280" y="3227400"/>
            <a:ext cx="6048360" cy="4730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1619280" y="3716280"/>
            <a:ext cx="6048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52231" descr=""/>
          <p:cNvPicPr/>
          <p:nvPr/>
        </p:nvPicPr>
        <p:blipFill>
          <a:blip r:embed="rId1"/>
          <a:stretch/>
        </p:blipFill>
        <p:spPr>
          <a:xfrm>
            <a:off x="281160" y="1328760"/>
            <a:ext cx="8581680" cy="4200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8281800" cy="8650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468360" y="3587760"/>
            <a:ext cx="6769080" cy="865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7280280" y="3789360"/>
            <a:ext cx="1612800" cy="4730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468360" y="4522680"/>
            <a:ext cx="67690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36:0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